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F6C-084A-422E-84D8-86133486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F85-A303-4C39-81E5-7C4B4F1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A96-646F-4105-B8B2-776D18C1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099-A7F3-4986-82B2-F59DCE86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614-6386-4A97-8C77-4E8A8F1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290-1702-4BE0-B8A7-3763797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330-6B24-4D19-8739-CB31506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2D3-6948-418D-A2E4-5131DB0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202-B64D-46A6-B2CF-8263EB0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A5D-0F32-4AC3-A2A3-92DF711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756-7A59-4937-951A-C8D7CF7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E3C-AF64-4CFC-B174-FDF6672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6382-CB13-4065-B59D-44D37EE2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col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29600" y="1066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860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lt Revolv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58672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5105520"/>
            <a:ext cx="2819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sta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7/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54864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8039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ll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2/811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257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: Sam C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Colt"/>
          <p:cNvPicPr/>
          <p:nvPr/>
        </p:nvPicPr>
        <p:blipFill>
          <a:blip r:embed="rId1"/>
          <a:stretch/>
        </p:blipFill>
        <p:spPr>
          <a:xfrm>
            <a:off x="1523880" y="1447920"/>
            <a:ext cx="274320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533520"/>
            <a:ext cx="2361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ilson MIT, Sam Colt, 12/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o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562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 Colt created the Colt Rev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lt Rev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began in 18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could fire multiple times with out re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Colt had also created several other revol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nvented the belt to hold revolvers in so men and woman could conceal the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t revolver could hold six rounds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m C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olt was born July 19,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ge 15 he set off on a boat to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36,at age of 22,Colt obtained a U.S. pantent for the Colt Rev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olt studied chemistry to make this fire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48 colt reastablished his facility in Hart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6T15:30:46Z</dcterms:modified>
  <cp:revision>12</cp:revision>
  <dc:subject/>
  <dc:title>Slide 1</dc:title>
</cp:coreProperties>
</file>